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1CDE-8521-4C04-9A26-ECD1F828E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EDF1-29B2-4AEA-B1E0-67B06A9F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7965-E16D-4332-BA3E-66D38032B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376200" y="6283440"/>
            <a:ext cx="8299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23608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Universita di Roma Tre - Dipartimento di Informatica e Automazione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rso di Laurea Specialistica in Ingegneria Informatica / Corso di Sistemi Informativ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23608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tudi di fattibilità : esperienze sul campo (seminario)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ntonio Leonforte (FHOSTER srl) - 3 dicembr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237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1857240" y="476280"/>
            <a:ext cx="676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23608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iversita di Roma Tre - Dipartimento di Informatica e Auto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23608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rso di Laurea Specialistica in Ingegneria Inform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23608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rso di Sistemi Informa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9" descr="http://web.dia.uniroma3.it/images/logodia.png"/>
          <p:cNvPicPr/>
          <p:nvPr/>
        </p:nvPicPr>
        <p:blipFill>
          <a:blip r:embed="rId2"/>
          <a:stretch/>
        </p:blipFill>
        <p:spPr>
          <a:xfrm>
            <a:off x="357120" y="500040"/>
            <a:ext cx="952560" cy="1523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376200" y="6283440"/>
            <a:ext cx="8299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23608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Universita di Roma Tre - Dipartimento di Informatica e Automazione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rso di Laurea Specialistica in Ingegneria Informatica / Corso di Sistemi Informativ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823608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tudi di fattibilità : esperienze sul campo (seminario)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ntonio Leonforte (FHOSTER srl) - 3 dicembr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468360" y="6237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nettore 1 5"/>
          <p:cNvSpPr/>
          <p:nvPr/>
        </p:nvSpPr>
        <p:spPr>
          <a:xfrm>
            <a:off x="571680" y="1428840"/>
            <a:ext cx="7929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7e08"/>
                </a:solidFill>
                <a:latin typeface="Arial"/>
              </a:rPr>
              <a:t>Studi di fattibilità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sperienze sul campo (seminari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1403280" y="37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\\DS\Fhoster\BusinessManagement\marketing\business card\fhoster.businessCard.AntonioLeonforte.jpg"/>
          <p:cNvPicPr/>
          <p:nvPr/>
        </p:nvPicPr>
        <p:blipFill>
          <a:blip r:embed="rId1"/>
          <a:stretch/>
        </p:blipFill>
        <p:spPr>
          <a:xfrm rot="20907000">
            <a:off x="2898360" y="3863880"/>
            <a:ext cx="3865680" cy="22384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ità dei requisi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sposizione / </a:t>
            </a:r>
            <a:r>
              <a:rPr b="0" lang="it-IT" sz="2400" spc="-1" strike="noStrike">
                <a:solidFill>
                  <a:srgbClr val="ce7e08"/>
                </a:solidFill>
                <a:latin typeface="Arial"/>
              </a:rPr>
              <a:t>Correttezza </a:t>
            </a:r>
            <a:r>
              <a:rPr b="0" lang="it-IT" sz="1600" spc="-1" strike="noStrike">
                <a:solidFill>
                  <a:srgbClr val="ce7e08"/>
                </a:solidFill>
                <a:latin typeface="Arial"/>
              </a:rPr>
              <a:t>(1/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sempre il cliente sa bene quello che vuole (ci arriva per approssimazioni successive nel corso dell’analisi preliminare). Spesso si pone autonomamente dei vincoli che assume come irremovibili e che invece non lo s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blem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terminolog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termini diverse per lo stesso concetto e stessi termini per concetti diversi – utilità del glossari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quisit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eccessivamente dettagliati</a:t>
            </a:r>
            <a:r>
              <a:rPr b="0" lang="it-IT" sz="2000" spc="-1" strike="noStrike">
                <a:solidFill>
                  <a:srgbClr val="ce7e08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che sconfinano dal campo dell’analisi a quello della progettazione o addirittura della implementazione, spesso portano a sistemi peggiori e più costosi. In tal caso è convenient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ridiscuter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 sede di studio di fattibil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ità dei requisi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sposizione / </a:t>
            </a:r>
            <a:r>
              <a:rPr b="0" lang="it-IT" sz="2400" spc="-1" strike="noStrike">
                <a:solidFill>
                  <a:srgbClr val="ce7e08"/>
                </a:solidFill>
                <a:latin typeface="Arial"/>
              </a:rPr>
              <a:t>Correttezza </a:t>
            </a:r>
            <a:r>
              <a:rPr b="0" lang="it-IT" sz="1600" spc="-1" strike="noStrike">
                <a:solidFill>
                  <a:srgbClr val="ce7e08"/>
                </a:solidFill>
                <a:latin typeface="Arial"/>
              </a:rPr>
              <a:t>(2/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blemi d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accuratezz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i presentano tipicamente nei requisiti funzionali legati alla gestione d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casi eccezion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non sempre chi formula il requisito comprende che il software per gestire le eccezioni va comunque scritto indipendentemente dalla frequenza con cui le eccezioni stesse accadono. Attenzione a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qualifica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empre, mai, tutti, nessu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requisiti dovrebbero esser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valida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 rappresentanti competenti di tutti i ruoli utente. Nella formulazione preliminare utilizzata ai fini dello studio di fattibilità, tuttavia, questo non avviene quasi mai per evidenti questioni di co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ità dei requisi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sposizione / </a:t>
            </a:r>
            <a:r>
              <a:rPr b="0" lang="it-IT" sz="2400" spc="-1" strike="noStrike">
                <a:solidFill>
                  <a:srgbClr val="ce7e08"/>
                </a:solidFill>
                <a:latin typeface="Arial"/>
              </a:rPr>
              <a:t>St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sieme dei requisiti preliminari sulla base dei quali di redige uno studio di fattibilità è quas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inevitabilmen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stinato ad essere modificato ed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este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el corso del progetto. Si tratta di stimare l’impatto percentuale di queste estensioni sul costo complessivo del progetto e sulla sua dur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entrata in esercizio d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versioni intermedi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sistema stimola la variazione dei requisiti esistenti e la creazione di nuovi requisiti </a:t>
            </a:r>
            <a:r>
              <a:rPr b="0" i="1" lang="it-IT" sz="2000" spc="-1" strike="noStrike">
                <a:solidFill>
                  <a:srgbClr val="7f7f7f"/>
                </a:solidFill>
                <a:latin typeface="Arial"/>
              </a:rPr>
              <a:t>(Heisenberg-like uncertaint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sempre il fornitore ha modo per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ricontratt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sti e tempi concordati inizialmente con il committente a fronte di ciascuna piccola variazione rispetto al progetto originario. I committenti si attendono un atteggiamento flessibile da parte del fornitore che deve quindi riservarsi de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margini di sicurezza</a:t>
            </a:r>
            <a:r>
              <a:rPr b="0" lang="it-IT" sz="2000" spc="-1" strike="noStrike">
                <a:solidFill>
                  <a:srgbClr val="ce7e08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egu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men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“funzionale” del software da svilup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aspetto del progetto è relativo all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quant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unziona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e quindi di software) da progettare ed implem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contrario della complessità (trattata nel seguito) che è una misura di tipo intensionale, la dimensione funzionale del software (spesso indicata con il termine scope) è una misura di caratter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estension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ò essere valutata con metriche orientate alle funzionalità. La più usata fra queste è senza dubbio quella denominat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Function Poi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un fattore di aggiustamento, la metrica FP può anche portare in conto la complessità del sistema derivate da requisiti non funzionali (e.g. fault tolerance, real-tim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less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software da sviluppare / </a:t>
            </a:r>
            <a:r>
              <a:rPr b="0" lang="it-IT" sz="2400" spc="-1" strike="noStrike">
                <a:solidFill>
                  <a:srgbClr val="ce7e08"/>
                </a:solidFill>
                <a:latin typeface="Arial"/>
              </a:rPr>
              <a:t>Algorit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tratta di una complessità riscontrabile relativament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di rad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sistemi informativi gestion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are e implementare algoritmi complessi è una attività ai confini dell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ricer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he richiede competenze molto specialistiche e che comporta dei costi e soprattutto dei rischi di insuccesso molto elev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tunatamente, per la maggior parte dei problemi che necessitano di implementazioni algoritmicamente complesse, esistono sul mercato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compon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oftware il cui acquisto è quasi sempre preferibile allo svilup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 di complessità algoritmiche più comuni sono quelle legate a problematiche di pattern recognition, cifratura, analisi statistica, et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less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software da sviluppare / </a:t>
            </a:r>
            <a:r>
              <a:rPr b="0" lang="it-IT" sz="2400" spc="-1" strike="noStrike">
                <a:solidFill>
                  <a:srgbClr val="ce7e08"/>
                </a:solidFill>
                <a:latin typeface="Arial"/>
              </a:rPr>
              <a:t>Architet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ado d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defini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architettur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ado di definizione dell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interfac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fra le compon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tà della architettura di sistema (e.g.,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coes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terna dei componenti e basso grado d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accoppi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fra componenti diver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nzione ai requisiti relativi 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proprietà emergent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sistema, ad esempio la tolleranza ai guasti, la storicizzazione dei dati, la dinamicità dello schema concettuale dei d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less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software da sviluppare / </a:t>
            </a:r>
            <a:r>
              <a:rPr b="0" lang="it-IT" sz="2400" spc="-1" strike="noStrike">
                <a:solidFill>
                  <a:srgbClr val="ce7e08"/>
                </a:solidFill>
                <a:latin typeface="Arial"/>
              </a:rPr>
              <a:t>Tecn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za di componenti softwar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legac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 integ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za di sistemi softwar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ester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cui interag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blemi di integrazione con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dispositivi</a:t>
            </a:r>
            <a:r>
              <a:rPr b="0" lang="it-IT" sz="2000" spc="-1" strike="noStrike">
                <a:solidFill>
                  <a:srgbClr val="ce7e08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fisici</a:t>
            </a:r>
            <a:r>
              <a:rPr b="0" lang="it-IT" sz="2000" spc="-1" strike="noStrike">
                <a:solidFill>
                  <a:srgbClr val="ce7e08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istenti o mandatori (e.g. lettori di smart-card,  lettori di codici a barre, schede di comunicazion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ità del softw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modificar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della sua documen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ce7e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Volum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a documentazione non implica qua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alline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fra documentazione e codice è ess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cod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ben scritto è sempre preferibile ad un codice scritto male ma ampiamente commentato. Diffidare del codice infarcito di comm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ificare un sistema scritto male e documentato male può costare più che riprogettare ed implementare il sistem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da ze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com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rado di impeg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com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etenza tecni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com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sistenza al cambia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gli utenti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e7e08"/>
                </a:solidFill>
                <a:latin typeface="Arial"/>
              </a:rPr>
              <a:t>NOT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questi aspetti sono esaminati con maggiore profondità nel caso in cui lo studio di fattibilità è  eseguito da un soggetto diverso dal committente stesso (ad esempio quanto è svolto dal fornitore al fine di valutare se accettare o meno una data commessa ad un certo prezz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com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rado di impeg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com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spcAft>
                <a:spcPts val="1250"/>
              </a:spcAft>
              <a:buClr>
                <a:srgbClr val="ce7e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Potere decisionale</a:t>
            </a:r>
            <a:r>
              <a:rPr b="0" lang="it-IT" sz="2000" spc="-1" strike="noStrike">
                <a:solidFill>
                  <a:srgbClr val="ce7e08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responsabile interno di progetto e delle persone da lui designate nell’ambito della organizzazione del committ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spcAft>
                <a:spcPts val="1250"/>
              </a:spcAft>
              <a:buClr>
                <a:srgbClr val="ce7e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Temp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esso a disposizione dal committente nella persona del responsabile interno di progetto e delle persone da lui desig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a un impatto sulla effettiva capacità del committente di vincere eventuali resistenze al cambiamento da parte degli utenti del sistema. Sistemi ben realizzati non entrano mai in esercizio a causa di un impegno insufficiente da parte del committ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u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a è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quali progetti è opportuno condurre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gli aspetti del progetto tipicamente esami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attività si svolgono nell’ambito di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figure professionali sono necess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i risultati at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com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etenza tecni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committente </a:t>
            </a:r>
            <a:r>
              <a:rPr b="0" lang="it-IT" sz="1600" spc="-1" strike="noStrike">
                <a:solidFill>
                  <a:srgbClr val="ce7e08"/>
                </a:solidFill>
                <a:latin typeface="Arial"/>
              </a:rPr>
              <a:t>(1/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generale è un fattore positivo perché facilita la comunicazione e contribuisce alla instaurazione di un rapporto di reciproc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fiduc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fra committente e fornitore, ampliando gli spazi di manovra in corso d’opera che, se ben gestititi, aumentano le probabilità di successo del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nzione ai committenti di livello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dirigenz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ritengono di saper progettare un sistema informativo complesso perché da giovani hanno scritto qualche programma in Visual Ba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nzione ai committent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vendor-oriente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he si muovono per sigle commerciali e che sottovalutano l’importanza della logica applicativa rispetto a quello della piattaforma tecnologica </a:t>
            </a:r>
            <a:br>
              <a:rPr sz="2000"/>
            </a:br>
            <a:r>
              <a:rPr b="0" lang="it-IT" sz="1600" spc="-1" strike="noStrike">
                <a:solidFill>
                  <a:srgbClr val="7f7f7f"/>
                </a:solidFill>
                <a:latin typeface="Arial"/>
              </a:rPr>
              <a:t>(</a:t>
            </a:r>
            <a:r>
              <a:rPr b="0" i="1" lang="it-IT" sz="1600" spc="-1" strike="noStrike">
                <a:solidFill>
                  <a:srgbClr val="7f7f7f"/>
                </a:solidFill>
                <a:latin typeface="Arial"/>
              </a:rPr>
              <a:t>esempio: se il sistema si basa su Windows NT allora ormai è obsoleto perché nel frattempo è uscito Windows 2000 Server</a:t>
            </a:r>
            <a:r>
              <a:rPr b="0" lang="it-IT" sz="1600" spc="-1" strike="noStrike">
                <a:solidFill>
                  <a:srgbClr val="7f7f7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com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etenza tecni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committente </a:t>
            </a:r>
            <a:r>
              <a:rPr b="0" lang="it-IT" sz="1600" spc="-1" strike="noStrike">
                <a:solidFill>
                  <a:srgbClr val="ce7e08"/>
                </a:solidFill>
                <a:latin typeface="Arial"/>
              </a:rPr>
              <a:t>(2/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aso in cui il fornitor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non sia un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scarsa competenza tecnica del committente è un fattore di rischio notevole perché gli impedisce di governare con autorevolezza la risoluzione di problemi non facilmente addebitabili ad uno specifico fornit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tali casi il committente si aspetta che i fornitori del sistema s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accordino autonomament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 chi sia il responsabile dei malfunzionamenti, cosa non sempre facile in presenza di fornitori poco se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sso i committenti poco competenti tecnicamente preferiscono avere rapporti con un unico fornitore principale (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prime contract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proprio per evitare i problemi descrit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com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sistenza al cambia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egli utenti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gestione delle informazioni conferisce potere. Se il sistema informativo altera il flusso delle informazioni può quindi alterar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equilibri di pote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esempio del timbro sul modulo cartaceo e del potere che ne deriv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alcuni casi la modifica o addirittura lo sviluppo di un sistema informativo è concepito, prima ancora che com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stru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perseguire efficienza ed efficacia dei processi,  come mezzo trasversale per acquisire o togliere potere a pers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fattore è tanto più critico quanto più la realizzazione/modifica del sistema informativo è accompagnata da una reingegnerizzazione dei processi (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BP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forn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truttura organizzati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gruppo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chio elevato nei casi in cui il fornitore sia in realtà una </a:t>
            </a:r>
            <a:r>
              <a:rPr b="1" lang="it-IT" sz="1800" spc="-1" strike="noStrike">
                <a:solidFill>
                  <a:srgbClr val="ce7e08"/>
                </a:solidFill>
                <a:latin typeface="Arial"/>
              </a:rPr>
              <a:t>associ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fornitori distinti sul piano organizzativo ma interdipendenti per quanto attiene le attività del proget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relativamente più elevato il rischio di incomprensioni fra organizzazioni con </a:t>
            </a:r>
            <a:r>
              <a:rPr b="1" lang="it-IT" sz="1800" spc="-1" strike="noStrike">
                <a:solidFill>
                  <a:srgbClr val="ce7e08"/>
                </a:solidFill>
                <a:latin typeface="Arial"/>
              </a:rPr>
              <a:t>cultu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fferenti (ad esempio tecnica/ingegneristica da una parte e storico/umanistica dall’alt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oscenza del dominio appli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perienza pregress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ella realizzazione di progetti simili o relativi allo stesso sistema interessato dal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e7e08"/>
                </a:solidFill>
                <a:latin typeface="Arial"/>
              </a:rPr>
              <a:t>NOT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questi aspetti sono esaminati con maggiore profondità nel caso in cui lo studio di fattibilità è eseguito dal committente (o da un consulente incaricato) su un insieme di fornitori noto a prio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u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Cosa è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er quali progetti è opportuno condurre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Quali sono gli aspetti del progetto tipicamente esami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 attività si svolgono nell’ambito di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figure professionali sono necess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i risultati at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vità svolte in uno studio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n gen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attività specifiche dipendono molto da quali sono 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fattori critici</a:t>
            </a:r>
            <a:r>
              <a:rPr b="0" lang="it-IT" sz="2000" spc="-1" strike="noStrike">
                <a:solidFill>
                  <a:srgbClr val="ce7e08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 successo individuati e da quanto è incerta la loro valutazione: obiettivo dello studio è infatti quello di minimizzare tali incertezze e di conseguenza il rischio complessivo inerente al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linea di massima le tipologie di attività sono le stesse che si ritrovano nel processo di sviluppo vero e proprio del sistema, con la importante differenza che l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prior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cui sono eseguite e l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profond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la quale vengono condotte sono funzione del rischio associato ai fattori di successo sui quali si investi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risch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egato ad un fattore critico di successo può essere espresso come il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prodot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grado di incertezza con cui si valuta quel fattore per l’impatto potenziale sul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vità svolte in uno studio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Esem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alisi del contest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quale il sistema da sviluppare/modificare operer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alisi dei requisi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sistema da sviluppare/modificar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raffinamento di quelli che presentano maggior risch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gli eventual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incoli applicabili al proces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sviluppo/modifica relativamente a risorse ed al tempo disponibi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rofondimento mirato della progett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massima  relativamente ad aspetti che presentano maggior risch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o di metrich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e.g Function Point) per la stima dei costi rispetto ai requisiti funzionali e non funzion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plementazione di prototip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tti ad abbattere alcuni rischi specifici di entità rilev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vità svolte in uno studio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Protip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rototipi per la minimizzazione di rischi tecnolog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zione fr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tecnolog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ad esempio Java e Visual Bas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azione d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compon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sistenti commerciali o in-house. Nel primo caso attenzione alla affidabilità del produttore rispetto al ciclo di vita del sistema da sviluppare/modific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spcAft>
                <a:spcPts val="1250"/>
              </a:spcAft>
              <a:buClr>
                <a:srgbClr val="ce7e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Effettiva utilizzabilità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 componenti esistenti commerciali o in-house rispetto a prestazioni, robustezza e volume di dati gesti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vità svolte in uno studio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Protip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Prototipi della interfaccia 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spesso più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effica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diagrammi più formali quando il committente ha una scarsa competenza nel settore informa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questo tipo di clienti è più facile accorgersi della mancanza di un attributo in un certo concetto a partire dalla mancanza del corrispettivo campo nel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prototip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’editor, piuttosto che esaminando un modello concettuale dei dat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me faccio a inserire questo dato ?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buon prototipo della interfaccia utente, meglio s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eseguibi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sente al committente di verificare sia i flussi di lavoro sia la completezza del modello concettuale dei d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u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Cosa è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er quali progetti è opportuno condurre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Quali sono gli aspetti del progetto tipicamente esami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Quali attività si svolgono nell’ambito di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 figure professionali sono necess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i risultati at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è uno studio di fatti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 insieme di attività finalizzate 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valut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per un progetto in cui i requisiti di massima del sistema da sviluppare/modificare siano definiti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n insieme di aspet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osto, benefici attesi, risorse necessarie, etc.)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 per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decider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se procedere o meno con la sua realizz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7e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NO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in questo seminario ci si limiterà a trattare studi di fattibilità relativi a progett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viluppo o modif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un sistema inform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professionali necessarie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Qua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pacità di analis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necessarie per suddividere e dominare adeguatamente il problema isolando le aree nelle quali si annida il rischio maggiore ed approfondendo quelle in maniera selet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petenza tecnica e progettu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necessaria per avere sensibilità sufficiente a prevedere quali potrebbero essere le fonti di eventuali problemi tecnologici durante il corso del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perienza e capacità di rel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necessaria per coinvolgere in modo adeguato la struttura organizzativa del committente (ed in alcuni casi del fornitore, se individuato) ai livelli gerarchici interessati, e modulare requisiti e priorità con autorevolezza e credibil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petenze manageri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necessarie per coordinare il gruppo di lavoro che esegue materialmente lo studio di fattibilità e per avere la necessaria sensibilità rispetto ai rischi ed ai costi “gestionali” legati allo sviluppo/modifica del sistema oggetto di st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professionali necessarie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Esperi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lo specifico, le figura ideale è quella generalmente indicata con il termine “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alista di sistem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5568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figura deve possedere considerevole </a:t>
            </a:r>
            <a:r>
              <a:rPr b="1" lang="it-IT" sz="1600" spc="-1" strike="noStrike">
                <a:solidFill>
                  <a:srgbClr val="ce7e08"/>
                </a:solidFill>
                <a:latin typeface="Arial"/>
              </a:rPr>
              <a:t>bagaglio di esperienz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 sistemi la cui complessità (architetturale e tecnologica) sia confrontabile con quella del sistema oggetto dello 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5568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i sistemi suddetti, la figura deve aver ricoperto in passato i </a:t>
            </a:r>
            <a:r>
              <a:rPr b="1" lang="it-IT" sz="1600" spc="-1" strike="noStrike">
                <a:solidFill>
                  <a:srgbClr val="ce7e08"/>
                </a:solidFill>
                <a:latin typeface="Arial"/>
              </a:rPr>
              <a:t>ruo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responsabile progetto (Project Manager) ed architetto software (Chief Software Architec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u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Cosa è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er quali progetti è opportuno condurre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Quali sono gli aspetti del progetto tipicamente esami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Quali attività si svolgono nell’ambito di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Quali figure professionali sono necess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 sono i risultati at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ultati attesi </a:t>
            </a:r>
            <a:r>
              <a:rPr b="0" lang="it-IT" sz="1800" spc="-1" strike="noStrike">
                <a:solidFill>
                  <a:srgbClr val="ce7e08"/>
                </a:solidFill>
                <a:latin typeface="Arial"/>
              </a:rPr>
              <a:t>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stima de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cos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progetto espressa come intervallo di valori minimo/massimo in funzione delle principali scelte progettuali che rimangono aperte anche a valle dello st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stima de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temp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sviluppo (o della loro soddisfacibilità nel caso in cui fossero assegnati) in funzione delle principali scelte progettuali che rimangono aperte anche a valle dello stu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stima più accurata di quella eventualmente disponibile prima dello studio, dell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risor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economiche (ad esempio risorse umane o strumenti software) necessarie per lo sviluppo del progetto e della loro disponibilità nell’intervallo temporale richiesto dal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ultati attesi </a:t>
            </a:r>
            <a:r>
              <a:rPr b="0" lang="it-IT" sz="1800" spc="-1" strike="noStrike">
                <a:solidFill>
                  <a:srgbClr val="ce7e08"/>
                </a:solidFill>
                <a:latin typeface="Arial"/>
              </a:rPr>
              <a:t>(2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stima de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benef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rivati dal progetto, per quanto possibili monetizzati in modo da essere direttamente confrontabili con i c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adeguata documentazione delle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variazio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pportate ai requisiti originali e delle principali scelte progettuali concordate con il committente nel corso dello studio, al fine di abbattere in via preventiva determinati fattori di risch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elenco dei principal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fattori di rischi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persistono anche a valle dello studio di fattibilità, ed una strategia per abbattere appena possibile tale rischio nel corso del progetto – ad esempio attraverso una revisione del piano di progetto che anticipi il più possibili eventuali prototipizz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u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Cosa è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quali progetti è opportuno condurre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gli aspetti del progetto tipicamente esami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attività si svolgono nell’ambito di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figure professionali sono necess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i risultati at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è opportuno condurre uno 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to un progetto, è opportuno eseguire uno studio per la sua fattibilità nel caso in cui non sia altrimenti possibil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stim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sufficiente confidenza qualcuno de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fattori critici</a:t>
            </a:r>
            <a:r>
              <a:rPr b="0" lang="it-IT" sz="2000" spc="-1" strike="noStrike">
                <a:solidFill>
                  <a:srgbClr val="ce7e08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 successo del progetto stes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progetto ha successo se il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cos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mplessivo (non solo economico) legato sua realizzazione è superato da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benef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mplessivi che ne derivano nell’orizzonte temporale inizialmente programm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alcuni contesti lo studio di fattibilità può risultare particolarment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sto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 causa degli adempimenti formali legati alla sua documentazione ed approv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possibile che, per piccoli progetti,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non sia uti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urre uno studio di fattibilità </a:t>
            </a:r>
            <a:r>
              <a:rPr b="0" i="1" lang="it-IT" sz="2000" spc="-1" strike="noStrike">
                <a:solidFill>
                  <a:srgbClr val="7f7f7f"/>
                </a:solidFill>
                <a:latin typeface="Arial"/>
              </a:rPr>
              <a:t>(almeno in termini formali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quanto il suo costo sarebbe paragonabile al danno derivante dal fallimento del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u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Cosa è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Per quali progetti è opportuno condurre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 sono gli aspetti del progetto tipicamente esami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attività si svolgono nell’ambito di uno studio di fatt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figure professionali sono necess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i risultati at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ntrod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no considerati tutti 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fattor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, essendo potenzialmente in grado di determinare il successo o il fallimento del progetto (ad esempio attraverso una dilatazione dei tempi o dei costi), richiedono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indagini specifich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ssere valutati con un grado accettabile di accuratez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i fattori richiedono un livello di investigazione differente a seconda che il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sogget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esegue lo studio di fattibilità 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ittent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l fine di decidere se approvare o meno un proget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nitor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l fine di decidere se accettare o meno una commes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ulente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r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quisi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dis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o e qualità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llabor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 i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men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“funzionale” del software da svilup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less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software da svilup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software da modificar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della sua documen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tti di progetto esaminati / </a:t>
            </a:r>
            <a:r>
              <a:rPr b="0" lang="en-US" sz="3200" spc="-1" strike="noStrike">
                <a:solidFill>
                  <a:srgbClr val="ce7e08"/>
                </a:solidFill>
                <a:latin typeface="Arial"/>
              </a:rPr>
              <a:t>I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ità dei requisi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sposizione / </a:t>
            </a:r>
            <a:r>
              <a:rPr b="0" lang="it-IT" sz="2400" spc="-1" strike="noStrike">
                <a:solidFill>
                  <a:srgbClr val="ce7e08"/>
                </a:solidFill>
                <a:latin typeface="Arial"/>
              </a:rPr>
              <a:t>Comple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quisit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implici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esempio della tazzina pulita quando si chiede un caffè al 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sso i requisit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omess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ono di natura non funzionale e riguardano il contesto operativo del sistema. Esempio firewall presente in ambiente di produzione ma non in ambiente di sviluppo e valid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requisiti di massima sono generalmente espressi dai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livelli direttiv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committente (che possono deformarli secondo logiche di prestigio personale) oppure dalla </a:t>
            </a:r>
            <a:r>
              <a:rPr b="1" lang="it-IT" sz="2000" spc="-1" strike="noStrike">
                <a:solidFill>
                  <a:srgbClr val="ce7e08"/>
                </a:solidFill>
                <a:latin typeface="Arial"/>
              </a:rPr>
              <a:t>struttura IT</a:t>
            </a:r>
            <a:r>
              <a:rPr b="0" lang="it-IT" sz="2000" spc="-1" strike="noStrike">
                <a:solidFill>
                  <a:srgbClr val="ce7e08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committente (che può concentrarsi sugli aspetti tecnologici trascurando quelli di proces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o di bandi di gara in cui si specificano le frequenze dei processori e si omette di descrivere interi casi d’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8:39:35Z</dcterms:created>
  <dc:creator>Antonio Leonforte</dc:creator>
  <dc:description/>
  <dc:language>en-US</dc:language>
  <cp:lastModifiedBy>Antonio Leonforte</cp:lastModifiedBy>
  <dcterms:modified xsi:type="dcterms:W3CDTF">2009-12-03T10:04:21Z</dcterms:modified>
  <cp:revision>35</cp:revision>
  <dc:subject/>
  <dc:title>Studi di fattibilità esperienze concrete</dc:title>
</cp:coreProperties>
</file>